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6F8D-D2E5-4707-B07B-06E51B506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D767-C2A2-4E5F-A40F-5B152B79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5CB2-D016-4D1F-A2C2-A9FD0201E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CA3B-0623-459B-8B6C-5D4AA603D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50D4-FDA0-4252-9DEE-E06D2DB44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3FB8-A8D7-4B54-A027-28D33C4A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5662-0280-4114-BF60-D1D56334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714F-057F-4C5F-B5FC-8D99BB3E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A796-3132-493E-A363-49E3E6D8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63D6-653C-4496-9F6E-27403078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7ED7-B37D-438B-9F42-2FA0D28C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3416-754E-47B0-A87C-83009B15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2D2A-E1A1-4647-A6BC-6CDB44C6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34CC-ADC9-4494-9846-770F0E3A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BEC5-BBDC-4A18-AAF4-152A3561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CD69-3A2B-4C88-8E2B-358FBE6EF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D1DA8-0EA4-4712-9719-392136508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46B36-2F68-44C9-8D5B-A5B45E69E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8C089-F24B-40B5-89DD-9602A399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65C49-CF4D-4319-89CD-4976BAB2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947B9-AED3-4CF3-9BE8-4EDCC117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BB9B9-DBAD-4DC7-8AD9-5F7FAF3A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5EF0-9EF8-40FE-8EA9-154674E8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3AB66-850A-473F-8634-38D248AF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26AC2-BF25-4E3B-A89F-7D77382A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2B156-C568-437D-95AD-B337A1D8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2FC46-8774-4113-A5E9-FC088A8C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2F172-4C27-4D65-83EC-5795920D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0C813-0A9C-412C-A0B5-064572D2A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9DCDF-2A35-463C-A414-913456492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55D46-7D5E-45A7-88C4-82FDB4C94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89628-D819-4B21-8A0B-1C258459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7E792-FF39-450A-ACE9-60C6940B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17D8-1FAB-4C53-902E-0F5234C7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A9DA9-4752-4282-A917-32FCC87F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6A2A7-DBD1-431C-A3FC-A97ED067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57A7E-6C0F-45FD-ADD6-80B1DC48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DB388-5E93-418D-B509-8D5AC583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47C23-FEA4-4680-8C16-6AE72291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793B2-E6A3-4872-A2E6-9E5D7B8F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E2530-0C53-4B5C-91DF-96D83576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CC883-20F1-44EE-9BD7-4692F7667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87E4B-E208-48C5-BED7-11F2CC9CC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D485F-53E3-4634-A269-BD9B7EA14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525C-29E3-4BAA-BF60-8B717781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EFC06-8009-474A-92FE-67BCD931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B49C7-152D-4B0C-B01E-1BC910CC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FE1E7-9FC1-491C-9CB2-E24B21F8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936FB-7D83-4F99-8C8C-7E94FD64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F9695-D80B-4EA0-8244-5B379C8E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1F48D-DB16-4B6D-B781-A8D39FD1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97FD1-3FED-4CE1-A35F-4B6BC9BE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6D7C6-E78C-4477-BA74-946E8FF0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23489-D704-4F8E-AE54-F54CD829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60120-E48C-4778-86E2-CE5EFA920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BEE8-56D7-4687-9653-F0DD01C9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600CF-F74A-4AAE-879B-2EE7C3124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61936-9CF9-4420-8B0A-E8298DD36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45253-62DD-4C50-852C-6982847F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99200-C858-4352-943C-ED68DCC4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096B9-52A2-4015-BB08-2BF555CC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7DF93-E687-4B9C-B54A-0784ED2A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E77A3-007E-41BB-87D7-0B5E4646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5FE16-ADDD-4588-90D9-9C9CD51F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1FF51-A5AB-4717-82DE-794339E6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61AD2-6829-49D5-9138-E885C2F2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0D88-7A12-45BD-8130-C298E32F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0F24D-E3E5-4081-8AD5-5B7422E9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07F4A-B83D-467F-9329-4DDEB1E73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E1A06-A552-49C3-8142-75B2B717A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5B319-26D9-4031-8019-29EF75241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FF8E2-C8BD-42E4-A3E0-DE7D06FA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F97EA-4F66-4EFE-A247-6A5198B9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A5F15-0480-4F90-A767-15C465D7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32E4E-B7AC-4EB4-9771-283FCE49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13F01-1401-4173-A19C-EDA1F478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1F5DD-2D07-48D8-8DA0-EDB179BC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EEAB-A0E1-4FC7-BC21-73DEC481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6E370-1E9F-4B87-9A09-7B9799B7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7744B-235A-4174-873A-3399FFCC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3FE25-44EA-42EF-A17B-363D87F0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1DFF4-7D4E-42E1-916D-25BF77B9E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76079-BEAC-4793-B345-ADEE4014B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4D9EF-1F57-4C89-8055-8E6001328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59000-1803-4144-AEA7-382FBC9A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6DF19-0540-436E-9F80-E86A7B58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493EF-4705-459C-89AE-8352C064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2245F-8A95-41F2-8BC1-4A747D28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1C02-CE51-40A3-9EBA-061AE3E0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5E9EA-90BA-41C0-8752-EA718287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E6299-6787-49CF-9C3F-8C518E90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B9C3C-A17A-431A-ACAE-245A2F1C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498C2-D30C-4A00-B6C1-26B97EBC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9BD95-ED48-49AD-AA08-889ABFCF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BB263-5712-4359-96C3-36F60C1A0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BC7EA-54AD-492D-B097-1F305728D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7F5E-3B07-4302-B61F-BC39E0DB0560}" type="slidenum"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6 Forma libre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19 Forma libre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19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20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100C-65E1-499A-B85F-7692A5895D4A}" type="slidenum">
              <a:rPr b="0" lang="es-MX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15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E60D-53D4-47F4-BB35-CB9CDB3B7E60}" type="slidenum"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5C63-1FE5-46A5-AD44-210420B2008B}" type="slidenum"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C17C-82A9-481D-8A13-10991035A253}" type="slidenum"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3593-D21F-43A9-8357-2655A1711926}" type="slidenum"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21D4-41BE-4C75-BC6C-CC24B33DCBDB}" type="slidenum"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15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16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16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18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19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20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CE7D-BEC5-45FB-B402-E44E76D72926}" type="slidenum">
              <a:rPr b="0" lang="es-MX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Resultado de imagen para logotipo proaire"/>
          <p:cNvPicPr/>
          <p:nvPr/>
        </p:nvPicPr>
        <p:blipFill>
          <a:blip r:embed="rId1"/>
          <a:stretch/>
        </p:blipFill>
        <p:spPr>
          <a:xfrm>
            <a:off x="755640" y="260280"/>
            <a:ext cx="7704000" cy="4464000"/>
          </a:xfrm>
          <a:prstGeom prst="rect">
            <a:avLst/>
          </a:prstGeom>
          <a:ln w="0">
            <a:noFill/>
          </a:ln>
        </p:spPr>
      </p:pic>
      <p:pic>
        <p:nvPicPr>
          <p:cNvPr id="371" name="1 Título" descr=""/>
          <p:cNvPicPr/>
          <p:nvPr/>
        </p:nvPicPr>
        <p:blipFill>
          <a:blip r:embed="rId2"/>
          <a:stretch/>
        </p:blipFill>
        <p:spPr>
          <a:xfrm>
            <a:off x="609480" y="1768320"/>
            <a:ext cx="7785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Resultado de imagen para logotipo proaire"/>
          <p:cNvPicPr/>
          <p:nvPr/>
        </p:nvPicPr>
        <p:blipFill>
          <a:blip r:embed="rId1"/>
          <a:stretch/>
        </p:blipFill>
        <p:spPr>
          <a:xfrm>
            <a:off x="395280" y="333360"/>
            <a:ext cx="8226360" cy="5126040"/>
          </a:xfrm>
          <a:prstGeom prst="rect">
            <a:avLst/>
          </a:prstGeom>
          <a:ln w="0">
            <a:noFill/>
          </a:ln>
        </p:spPr>
      </p:pic>
      <p:pic>
        <p:nvPicPr>
          <p:cNvPr id="373" name="1 Título" descr=""/>
          <p:cNvPicPr/>
          <p:nvPr/>
        </p:nvPicPr>
        <p:blipFill>
          <a:blip r:embed="rId2"/>
          <a:stretch/>
        </p:blipFill>
        <p:spPr>
          <a:xfrm>
            <a:off x="262080" y="1620720"/>
            <a:ext cx="8742240" cy="28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Resultado de imagen para logotipo proaire"/>
          <p:cNvPicPr/>
          <p:nvPr/>
        </p:nvPicPr>
        <p:blipFill>
          <a:blip r:embed="rId1"/>
          <a:stretch/>
        </p:blipFill>
        <p:spPr>
          <a:xfrm>
            <a:off x="684360" y="333360"/>
            <a:ext cx="7848360" cy="5399280"/>
          </a:xfrm>
          <a:prstGeom prst="rect">
            <a:avLst/>
          </a:prstGeom>
          <a:ln w="0">
            <a:noFill/>
          </a:ln>
        </p:spPr>
      </p:pic>
      <p:sp>
        <p:nvSpPr>
          <p:cNvPr id="375" name="2 CuadroTexto"/>
          <p:cNvSpPr/>
          <p:nvPr/>
        </p:nvSpPr>
        <p:spPr>
          <a:xfrm>
            <a:off x="611280" y="2565360"/>
            <a:ext cx="7777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Generar convenios entre el sector educativo, de salud, organizaciones no gubernamentales y ambientales. (2020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Convenios generado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2. Crear grupo de trabajo multidisciplinario.(2018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Grupo de trabajo conformado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3 CuadroTexto"/>
          <p:cNvSpPr/>
          <p:nvPr/>
        </p:nvSpPr>
        <p:spPr>
          <a:xfrm>
            <a:off x="468360" y="333360"/>
            <a:ext cx="7991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es-MX" sz="2000" spc="-1" strike="noStrike">
                <a:solidFill>
                  <a:srgbClr val="000000"/>
                </a:solidFill>
                <a:latin typeface="Lucida Sans Unicode"/>
              </a:rPr>
              <a:t>Contar con un programa de educación ambiental para concientizar y sensibilizar a estudiantes sobre la contaminación del aire y sus impactos a la salud y el medio ambient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Resultado de imagen para logotipo proaire"/>
          <p:cNvPicPr/>
          <p:nvPr/>
        </p:nvPicPr>
        <p:blipFill>
          <a:blip r:embed="rId1"/>
          <a:stretch/>
        </p:blipFill>
        <p:spPr>
          <a:xfrm>
            <a:off x="684360" y="504720"/>
            <a:ext cx="7848360" cy="5372280"/>
          </a:xfrm>
          <a:prstGeom prst="rect">
            <a:avLst/>
          </a:prstGeom>
          <a:ln w="0">
            <a:noFill/>
          </a:ln>
        </p:spPr>
      </p:pic>
      <p:sp>
        <p:nvSpPr>
          <p:cNvPr id="378" name="2 CuadroTexto"/>
          <p:cNvSpPr/>
          <p:nvPr/>
        </p:nvSpPr>
        <p:spPr>
          <a:xfrm>
            <a:off x="611280" y="836640"/>
            <a:ext cx="7777080" cy="40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3. Diseñar el material didáctico en el tema de calidad del aire. (2018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Material didáctico, educativo y/o informativo en el tema de la calidad del aire diseñado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4. Diseñar e implementar un programa de educación ambiental en el tema de la calidad del aire y sus impactos a la salud. (2018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Programa de educación ambiental implementado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04T15:04:52Z</dcterms:created>
  <dc:creator>Impacto</dc:creator>
  <dc:description/>
  <dc:language>en-US</dc:language>
  <cp:lastModifiedBy>Impacto</cp:lastModifiedBy>
  <dcterms:modified xsi:type="dcterms:W3CDTF">2019-12-04T15:58:22Z</dcterms:modified>
  <cp:revision>2</cp:revision>
  <dc:subject/>
  <dc:title>5. Comunicación y Educación Ambiental.</dc:title>
</cp:coreProperties>
</file>